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notesMasterIdLst>
    <p:notesMasterId r:id="rId33"/>
  </p:notes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  <p:sldId id="275" r:id="rId53"/>
    <p:sldId id="276" r:id="rId54"/>
    <p:sldId id="277" r:id="rId55"/>
    <p:sldId id="278" r:id="rId56"/>
    <p:sldId id="279" r:id="rId57"/>
    <p:sldId id="280" r:id="rId58"/>
    <p:sldId id="281" r:id="rId59"/>
    <p:sldId id="282" r:id="rId60"/>
    <p:sldId id="283" r:id="rId61"/>
    <p:sldId id="284" r:id="rId62"/>
    <p:sldId id="285" r:id="rId63"/>
    <p:sldId id="286" r:id="rId64"/>
    <p:sldId id="287" r:id="rId65"/>
    <p:sldId id="288" r:id="rId66"/>
    <p:sldId id="289" r:id="rId67"/>
    <p:sldId id="290" r:id="rId68"/>
    <p:sldId id="291" r:id="rId69"/>
    <p:sldId id="292" r:id="rId7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notesMaster" Target="notesMasters/notesMaster1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slide" Target="slides/slide20.xml"/><Relationship Id="rId54" Type="http://schemas.openxmlformats.org/officeDocument/2006/relationships/slide" Target="slides/slide21.xml"/><Relationship Id="rId55" Type="http://schemas.openxmlformats.org/officeDocument/2006/relationships/slide" Target="slides/slide22.xml"/><Relationship Id="rId56" Type="http://schemas.openxmlformats.org/officeDocument/2006/relationships/slide" Target="slides/slide23.xml"/><Relationship Id="rId57" Type="http://schemas.openxmlformats.org/officeDocument/2006/relationships/slide" Target="slides/slide24.xml"/><Relationship Id="rId58" Type="http://schemas.openxmlformats.org/officeDocument/2006/relationships/slide" Target="slides/slide25.xml"/><Relationship Id="rId59" Type="http://schemas.openxmlformats.org/officeDocument/2006/relationships/slide" Target="slides/slide26.xml"/><Relationship Id="rId60" Type="http://schemas.openxmlformats.org/officeDocument/2006/relationships/slide" Target="slides/slide27.xml"/><Relationship Id="rId61" Type="http://schemas.openxmlformats.org/officeDocument/2006/relationships/slide" Target="slides/slide28.xml"/><Relationship Id="rId62" Type="http://schemas.openxmlformats.org/officeDocument/2006/relationships/slide" Target="slides/slide29.xml"/><Relationship Id="rId63" Type="http://schemas.openxmlformats.org/officeDocument/2006/relationships/slide" Target="slides/slide30.xml"/><Relationship Id="rId64" Type="http://schemas.openxmlformats.org/officeDocument/2006/relationships/slide" Target="slides/slide31.xml"/><Relationship Id="rId65" Type="http://schemas.openxmlformats.org/officeDocument/2006/relationships/slide" Target="slides/slide32.xml"/><Relationship Id="rId66" Type="http://schemas.openxmlformats.org/officeDocument/2006/relationships/slide" Target="slides/slide33.xml"/><Relationship Id="rId67" Type="http://schemas.openxmlformats.org/officeDocument/2006/relationships/slide" Target="slides/slide34.xml"/><Relationship Id="rId68" Type="http://schemas.openxmlformats.org/officeDocument/2006/relationships/slide" Target="slides/slide35.xml"/><Relationship Id="rId69" Type="http://schemas.openxmlformats.org/officeDocument/2006/relationships/slide" Target="slides/slide36.xml"/><Relationship Id="rId70" Type="http://schemas.openxmlformats.org/officeDocument/2006/relationships/slide" Target="slides/slide3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1A443CC-40EB-41C5-A6AC-E9469BF4C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D50E4F8-D7A7-4CF6-A7C5-5191EA6CDFFB}" type="slidenum">
              <a:rPr b="0" lang="en-US" sz="1200" spc="-1" strike="noStrike">
                <a:solidFill>
                  <a:srgbClr val="958d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AA4E-9444-48D5-AE3F-B1A8BF5FC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621A-49D8-4ABE-AC2A-63F3813F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EB34-FD23-444F-9FB4-B1BE5155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0792-08DB-4711-BFED-1985CCE3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0C78-8BA2-47B0-B19F-A92A806A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0A01-BFA9-4A44-8693-08955147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6D29-B111-46B9-AFA6-41701361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FCBE-B22F-45E1-8A23-CD83B96F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3EA4-C915-41DB-A2D2-28667534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4CB8-0E5B-4C9B-A35B-CA14CF06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7954-CF33-4149-846D-6293A147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A01E-9BEA-4637-91C9-6D6041CC7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44C7-21B5-4CE4-9976-04CA15E5B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B076-C1E2-467B-88E5-383C4840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2E83-7132-4A14-8853-9B4052AC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4CA9-12A4-4C81-876F-AE8AE87F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4F9A-538F-40D1-A3BE-076E1B11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B640-6533-4C36-B851-6D0672ED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77F9-6512-4B14-80A8-E2013C87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E6A9-6D4B-421C-AF76-29202C2E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89B3-81D8-470E-B7AD-C42AD73F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8F0D-E5FA-4FE4-9513-3000B5EC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2DFD-4144-4E2A-A114-1DDB4E922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1A9B-352F-4684-8F79-D1426CC23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60" name="Picture 5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826C1566-39D4-475D-A056-19E8337CAECA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0328ED0A-957C-4084-9845-9CD226E6BE6A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3877CB1C-5BBC-48E1-A6D8-4BD29F1C345B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7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166320A6-1D2C-4CFF-8BA1-17D8F32B616B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1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AC50E619-178B-44BB-A7A9-FBD9D5AB4954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5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4FD75D1A-0844-4EFA-830B-957C7427DDDD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BDE6DA9E-36B0-43A4-B1A8-670D6DE871C8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63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0547DDBE-5240-401B-BD9F-A4802557754F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67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73D52479-1D5D-4ACB-B9CA-A5B9D933AD22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1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1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36BFB011-D439-4CC1-AD26-494A3BA8285A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FFA139B4-FB54-4D3D-BF8A-457594E603BA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5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5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B4B7E4B9-8734-4D53-9988-8840A2827B89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9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9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9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826C50A7-F7E3-417A-B5D2-9F7048DA95DD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83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83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0E8F728C-BAB8-4170-98DE-C0EDB77C6965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87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C3117E50-5C34-4512-9A02-F3968B71C062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913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14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C25C-5F1B-4872-A0D4-BFAB77ED3636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58d8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58d8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58d8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58d85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58d85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58d85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58d85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8029E950-462C-4499-87D2-890E252F96EE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956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553A-EE13-4556-A603-CBBC0AD5D893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85800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990720"/>
            <a:ext cx="2514600" cy="16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Picture 1" descr=""/>
          <p:cNvPicPr/>
          <p:nvPr/>
        </p:nvPicPr>
        <p:blipFill>
          <a:blip r:embed="rId3"/>
          <a:stretch/>
        </p:blipFill>
        <p:spPr>
          <a:xfrm>
            <a:off x="685800" y="3078000"/>
            <a:ext cx="340524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Picture 1" descr=""/>
          <p:cNvPicPr/>
          <p:nvPr/>
        </p:nvPicPr>
        <p:blipFill>
          <a:blip r:embed="rId3"/>
          <a:stretch/>
        </p:blipFill>
        <p:spPr>
          <a:xfrm>
            <a:off x="5181480" y="2719440"/>
            <a:ext cx="3405240" cy="7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0C44D697-8546-4E2A-AA04-C119CEFF836B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5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2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6248520" y="4876920"/>
            <a:ext cx="2514600" cy="168588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65172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55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96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37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78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16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18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19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7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7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8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8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8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7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5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2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28" name="Rectangle 10"/>
          <p:cNvSpPr/>
          <p:nvPr/>
        </p:nvSpPr>
        <p:spPr>
          <a:xfrm>
            <a:off x="685800" y="3200400"/>
            <a:ext cx="82296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Verdana"/>
              </a:rPr>
              <a:t>Работа с медиите. Практически съвети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1b4e7"/>
                </a:solidFill>
                <a:latin typeface="Verdana"/>
              </a:rPr>
              <a:t>Паола Хюсеин, редактори култура и оживление, в-к 24 часа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01b4e7"/>
                </a:solidFill>
                <a:latin typeface="Verdana"/>
              </a:rPr>
              <a:t>Елена Брайкова, </a:t>
            </a:r>
            <a:r>
              <a:rPr b="0" lang="ru-RU" sz="2000" spc="-1" strike="noStrike">
                <a:solidFill>
                  <a:srgbClr val="01b4e7"/>
                </a:solidFill>
                <a:latin typeface="Verdana"/>
              </a:rPr>
              <a:t>Старши Акаунт мениджър и Връзки с институции, </a:t>
            </a:r>
            <a:r>
              <a:rPr b="0" lang="bg-BG" sz="2000" spc="-1" strike="noStrike">
                <a:solidFill>
                  <a:srgbClr val="01b4e7"/>
                </a:solidFill>
                <a:latin typeface="Verdana"/>
              </a:rPr>
              <a:t>Юнайтед Партнърс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Picture 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 иска информацията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914400" y="335232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Кратко, точно, ясно!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ИЗ "УПРАЖНЕНИЯ ПО СТИЛ"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РЕЙМОН КЬОНО</a:t>
            </a:r>
            <a:br>
              <a:rPr sz="2400"/>
            </a:b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В автобус по южната линия в един от натоварените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часове. Тип на двадесет и шест години - мека шапка с шнур, заместващ панделката; прекалено дълъг врат, сякаш са го разтягали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Хората слизат. Въпросният тип се сърди на един съсед. Упреква го, че го блъска всеки път, щом мине някой. Хленчещ тон, а му се иска да е зъл. Като вижда едно свободно място, се спуска към него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ва часа по-късно го срещам отново - на Римския площад, пред гара Сен Лазар. Той е с един приятел, който му казва: "Ще трябва да сложиш още едно копче на сакото си". Обяснява му къде (на скъсаното място) и защо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АНОТАЦИЯ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243000" y="8377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Гъстонаселено се автотранспортирах в общоизвестното южнопарижко направление и се самоозовах близкостоящ до един дълговрат плетеноширитен дръжмишапковец. Гореописания трагикомично слаботелесен нехранимайко с плиткодънна многозначителност умопомрачи едикой си с долуказаното: "Както целенасочено своеволничите, вие злоупотребявате с телосложението ми нееднократно!"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животрептящото си словоизлияние преждеговорившия правостоящ скорострелно се облагодетелствува от една обезлюдила се междувременно едноместна автоседалка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двучасово времетраене мимоходом го лицезрях да площадосенлазарствува с един гологлав доброжелател, който нравоучително и чистосърдечно празнословеше: "Целесъобразно е да прекомплектоваш по-благоразумно полушубката си!" И умозаключително изсладкодумничи причиноследствената взаимовръзка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СЛОЖНОДУМНО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като пуснах корени от чакане под цъфналия слънчоглед, аз се ашладисах на една тиквичка по пътя за Чам дере. Там се натъкнах на избуяла кратуна, чийто лимоненожълт плод стърчеше с увита около него лиана. Този ми ти пъпеш наряза като краставица един репон, който му тъпчел лехите и му газел лука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Но за да не вади кестените от огъня, той си обра крушите и се насади в един парцел за лично ползуване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-късно го видях пред Женския пазар, направен на бъзе и коприва, защото имаше на палтото си нещо, което не беше цвете за мирисан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БОТАНИЧЕСКИ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7002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Иска да научи повече от това, което му поднасяте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Е отличен изследовател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Бързо “влиза в ритъм” по отношение на дадената информация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Разработва и използва различни източници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Пише при определен краен срок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Е само един журналист в контекста на цялостния процес по публикация на материали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Всеки добър журналист: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31860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Много от хората в тази професия са и си остават идеалист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Настроени са срещу бизнеса, срещу печалбата, срещу властите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Журналистите по принцип са цинично настроен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Те са самовлюбени, с предразсъдъци, субективност, и са свръхчувствителни на тема състезание с колегите с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Работят много часове, имат кратки крайни срокове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Журналистите често работят сам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Професията им не поощрява екипен дух в корпоративен стил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Са хора, като всички останали!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Но имайте предвид, че...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Придържайки се към </a:t>
            </a:r>
            <a:r>
              <a:rPr b="1" lang="ru-RU" sz="2400" spc="-1" strike="noStrike">
                <a:solidFill>
                  <a:srgbClr val="00b0f0"/>
                </a:solidFill>
                <a:latin typeface="Verdana"/>
              </a:rPr>
              <a:t>четиристранния тест </a:t>
            </a: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за онова което мислим, говорим или правим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1.Това ли е истинат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2.Справедливо ли е спрямо всички, които засяг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3.Ще създаде ли това добронамереност и по-добри приятелств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4.Ще бъде ли от полза за всички, които засяга?</a:t>
            </a:r>
            <a:br>
              <a:rPr sz="2400"/>
            </a:b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Затова се отнасяйте с тях,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2282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едаването на информацията често е не по-малко важно от съдържанието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 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Имайте отлични познания по темата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Бъдете уверени и вдъхвайте респект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Избягвайте поведение на арогантност / превес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Бъдете учтиви, дръжте се приятно през цялото врем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Променяйте изказа според контекста на въпросит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Давайте колкото се може по-прости и кратки коментар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Придържайте се към темата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Сведете до минимум техническия жаргон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Демонстрирайте спокойстви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то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се оставяйте “да ви хванат”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нимателно изслушвайте въпросите!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Избягвайте спонтанни неуверени отговор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се дръжте прекалено приятелск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се изказвайте лошо за трети стран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запълвайте ‘паузите’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Приемете, че каквото казвате е “официално”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се опитвайте да поучавате или принизявате журналиста!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изпадайте в словоизлияния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3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  <a:ea typeface="Verdana"/>
              </a:rPr>
              <a:t>Lost in connection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18600" y="10666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ечатни или записани интервю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мнете, че каквото и да кажете, то ще бъде съкратено / редактиран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Уверете се, че има повече време / място за подробни обясн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Ако е на запис, опитайте се да формулирате кратки изречения, за да избегнете заблуждаващо редактиране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Интервюта на живо: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Имате само една възможност – бъдете подготвени!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Обикновено имате по-малко време (за по-малко думи)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Шансът за обосновка е по-малък, отколкото при печатно интервю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редварително си подгответе кратки ключови послания!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оворете стегнато и ясно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ри всяко интервю, което давате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обавете визуален елемент към речта: жестове, движения, удар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Внимавайте за езика на тялото си: бъдете уверени, прями, позитив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пози като ръце на хълбоци или сключени зад глав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“бариери” в общуването, като обръщане на друга страна или скръстване на ръце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Демонстрирайте интерес към нещата, които казва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нервни жестове с ръцете или поставянето им пред лицето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и всяко интервю, което давате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нимавайте жестовете ви да са свободни, но контролирани, ако хората около вас са резервирани или нервни; избягвайте резки движения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Ако искате да “затоплите” атмосферата, стойте малко по-близо до другия (до интервюиращия)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Стремете се думите езикът на тялото ви да съвпадат, иначе ще изглеждате неискрен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Усмихвайте се – уверените хора рядко гледат строго или сърдито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“Четете” по лицето на интервюиращия и съобразявайте отговорите си с това – все пак не сте в условията на вакуум!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Ако давате ТВ интервю, винаги внимавайте за следните нещ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ведението си, ако още сте пред камер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ачина на сядане, ставан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ачина на обличане – без ярки цветове, карета, раета и пр.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ледайте интервюиращия, не камерата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Отправяне на посланието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емете инициатив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ърво отправяйте най-силното си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държайте това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втаряйте г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Обогатявайте го с анекдоти, крилати фрази и др.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оворете кратко и ясн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Развийте собствена техника на изказване.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1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Контролирайте неща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ърво отговорете на въпроса, колкото може по-кратк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рехвърлете се към ключовото си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речете ключовото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крепете г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вторете ключовото послание!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228240" y="6667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Използвайте ОПП технология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О</a:t>
            </a: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Отговор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рехвърляне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слание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273" name="Picture 2" descr=""/>
          <p:cNvPicPr/>
          <p:nvPr/>
        </p:nvPicPr>
        <p:blipFill>
          <a:blip r:embed="rId1"/>
          <a:stretch/>
        </p:blipFill>
        <p:spPr>
          <a:xfrm>
            <a:off x="696960" y="2209680"/>
            <a:ext cx="7748640" cy="4181760"/>
          </a:xfrm>
          <a:prstGeom prst="rect">
            <a:avLst/>
          </a:prstGeom>
          <a:ln w="28440">
            <a:solidFill>
              <a:srgbClr val="005da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имери за “прехвърляне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Бих искал/а да подчертая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Най-важното е да се разбере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Ако има нещо за отбелязване, то е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И нека да добавя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Ако погледнем по-нататък, ще видим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И нека не забравяме ,че…”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5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4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Уверете се, че знаете за какво ще ви интервюират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Имайте подготвени ключови послания / изявления и бъдете готови да ги повтарят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Говорете по възможно най-разбираем и лек начин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Бъдете кратк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П</a:t>
            </a: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o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мнете, че: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Интервюто не е приятелски разговор!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Няма нещо, наречено “неофициално изявление”!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7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Основни правила на интервюто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Комуникирайте посланието с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ставяйте ударение на ключови момент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е отклонявайте от тем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Бъдете кратк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Дръжте се като говорител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Бъдете търпеливи и прятелски настрое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крепяйте се с факт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ползвайте шеговити изрази, крилати мисли (с мярка!)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Уважавайте крайния срок на журналиста или времетраенето на интервюто, когато то е за електронна медиа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9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во да правите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во иска един журналист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ubTitle"/>
          </p:nvPr>
        </p:nvSpPr>
        <p:spPr>
          <a:xfrm>
            <a:off x="914400" y="365724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Да му привлечете вниманието! 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оказвайте раздразне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е отбранявайте по който и да е аспект от вашата рабо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равете никакви “неофициални” изявл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отговаряйте на въпроса с въпрос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обсъждайте неща, за които не сте упълномоще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равете предполoжения; кажете “не зная”, ако не знае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и правете шег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отговори от типа “без коментар”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1" name="Rectangle 2"/>
          <p:cNvSpPr/>
          <p:nvPr/>
        </p:nvSpPr>
        <p:spPr>
          <a:xfrm>
            <a:off x="14400" y="0"/>
            <a:ext cx="9144000" cy="990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во да не правите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ловко мълчание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се изнервяйте. Не казвайте повече от планираното, за да запълните тишината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одвеждащи въпроси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Приемете или отхвърлете въпроса и се върнете към ключовото си послание / изявление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приемливи алтернативи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Отхвърляйт</a:t>
            </a: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e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всяка предложена алтернатива на отговор, като се връщате на ключовото си послание/изявление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Коментар по изказванията на други хора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коментирайте нечии други изказвания. Придържайте се към посланието с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3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Хипотетични предположен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реагирайте на хипотетични предположения. Придържайте се към посланието с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отвърждаване на чужда позиц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повтаряйте изказвания на журналиста. Променете изказването така че да служи на вашите цел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екъсвания 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Искайте възможност да довършите отговора си. Бъдете колкото се може по-кратк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Бързо задавани въпроси 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Спрете потока от въпроси с жест. Отговорете на онзи въпрос, който е най-добър за вас.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5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Грешни предположения и заключен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еднага посочете грешката и я подчертайте пред интервюиращия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Удар из засада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е необходимо да се съгласявате да давате интервю, ако времето и мястото не ви устройват. Предложете време и място, подходящи за вас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7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318600" y="11430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•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оброволчеството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Взаимодействието между хората в развитите и развиващите се стран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Местни проекти или проекти на Фондацият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Международните обучения на Rotary и обмен на участници по програмите (Младежки обмен, Ротари за световен мир, Стипендианти-посланици или Групово обучение за членове)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Истории за хора, на които службата е помогнал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ейности в полза на ПолиоПлюс, особено в полио-ендемичните райони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9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libri"/>
              </a:rPr>
              <a:t>Да се върнем на историите на Ротари!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3"/>
          <p:cNvSpPr/>
          <p:nvPr/>
        </p:nvSpPr>
        <p:spPr>
          <a:xfrm>
            <a:off x="0" y="1371600"/>
            <a:ext cx="9144000" cy="37339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Verdana"/>
              </a:rPr>
              <a:t>Добрата история е добра история, написана и на салфетка! 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3"/>
          <p:cNvSpPr/>
          <p:nvPr/>
        </p:nvSpPr>
        <p:spPr>
          <a:xfrm>
            <a:off x="0" y="990720"/>
            <a:ext cx="9144000" cy="487656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rface: </a:t>
            </a: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Първият лек шок на осъзнаване идва през лятото на 1994 г. с една ръчно написана бележка, оставена върху бюрото на Рой Андерсън. </a:t>
            </a: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Бележката е от дистрибутор на компанията на западния бряг и гласи: "Някои клиенти се интересуват какво прави "Интерфейс" за околната среда. Какво да им отговарям?"</a:t>
            </a: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Rectangle 3"/>
          <p:cNvSpPr/>
          <p:nvPr/>
        </p:nvSpPr>
        <p:spPr>
          <a:xfrm>
            <a:off x="0" y="990720"/>
            <a:ext cx="9144000" cy="4572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Verdana"/>
              </a:rPr>
              <a:t>Дори да ми е останал един-единствен долар, бих го инвестирал в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!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Verdana"/>
              </a:rPr>
              <a:t>Бил Гейтс 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3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Verdana"/>
              </a:rPr>
              <a:t>3 000 метра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3" name="Picture 7" descr="P0228413K_big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Picture 25" descr="P0228299N_big"/>
          <p:cNvPicPr/>
          <p:nvPr/>
        </p:nvPicPr>
        <p:blipFill>
          <a:blip r:embed="rId1"/>
          <a:stretch/>
        </p:blipFill>
        <p:spPr>
          <a:xfrm>
            <a:off x="685800" y="615960"/>
            <a:ext cx="78487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5" name="Picture 5" descr="P0203126N_big"/>
          <p:cNvPicPr/>
          <p:nvPr/>
        </p:nvPicPr>
        <p:blipFill>
          <a:blip r:embed="rId1"/>
          <a:stretch/>
        </p:blipFill>
        <p:spPr>
          <a:xfrm>
            <a:off x="380880" y="584280"/>
            <a:ext cx="815364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во не иска един журналист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ubTitle"/>
          </p:nvPr>
        </p:nvSpPr>
        <p:spPr>
          <a:xfrm>
            <a:off x="914400" y="37335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Да му губите времето! 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8" name="Picture 3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108680" cy="5438520"/>
          </a:xfrm>
          <a:prstGeom prst="rect">
            <a:avLst/>
          </a:prstGeom>
          <a:ln w="0">
            <a:noFill/>
          </a:ln>
        </p:spPr>
      </p:pic>
      <p:sp>
        <p:nvSpPr>
          <p:cNvPr id="1239" name="Rectangle 3"/>
          <p:cNvSpPr/>
          <p:nvPr/>
        </p:nvSpPr>
        <p:spPr>
          <a:xfrm>
            <a:off x="4417920" y="436680"/>
            <a:ext cx="457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ашият враг не е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 Google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ашият враг са корпоративните новин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овините за продукт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искомасленият журнализъм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Безкофеиновите новин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16a62"/>
                </a:solidFill>
                <a:latin typeface="Verdana"/>
              </a:rPr>
              <a:t>Вицепрезидентът на Innovation Хуан Антонио Гинер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0:11:30Z</dcterms:created>
  <dc:creator>RI WS-06</dc:creator>
  <dc:description/>
  <dc:language>en-US</dc:language>
  <cp:lastModifiedBy>UP</cp:lastModifiedBy>
  <cp:lastPrinted>2013-04-11T19:55:04Z</cp:lastPrinted>
  <dcterms:modified xsi:type="dcterms:W3CDTF">2015-10-09T16:18:53Z</dcterms:modified>
  <cp:revision>717</cp:revision>
  <dc:subject/>
  <dc:title>PowerPoint Presentation</dc:title>
</cp:coreProperties>
</file>